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870FF-C6BA-4313-9E64-93F27FB2C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0759B-5D73-460B-9C26-D22085FE0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5E8BD-BCB5-4C97-8797-05668A5EF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0637C-A54A-4B62-A806-3F90C40D9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16508-BD87-4074-B0E3-CE5F2FF4A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605EF-F9C5-40AA-AC1D-9549BC857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80BF1-A524-4614-BB98-8347AD624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268BF-1FC3-4D4B-B134-E47032CAC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A40BF-2DD2-4DAF-871C-773DBD2C8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DC9E8-36B0-4E29-A281-5EB8870ED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161F1-0882-476A-BD23-54CD617C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44C46-9E3B-42F5-BAC7-180F11FA7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F090C-1E05-4DF7-B4B9-7260C50A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651BE-3753-41D1-B640-68A97854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5009F-CFA0-4368-88BF-38A655346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50CA8-94EF-43D7-8BC2-029989CFC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1BEA5-90E4-4F35-AB5D-5A5FC58DB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C41D4-5BE9-49AF-9456-03E7C92EE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BB0EE-FE05-4764-B60C-2E8598211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B1164-C8C3-4638-94BC-CF228AA53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2FBCD-19FA-42C1-9AE0-A4D55AE37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C5ECF-A94A-4E23-9BE4-3F53060D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E07DA-E68D-494C-8CA9-B9538F8C2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DEE7C-CD1F-477F-A092-74C2E0583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08C9C-09F5-445B-AE2A-95CB75CEFC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d0d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d0d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3D54D-416C-4CE0-8243-D96D5813B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aramond"/>
              </a:rPr>
              <a:t>Gesund Leben!</a:t>
            </a:r>
            <a:endParaRPr b="0" lang="en-US" sz="5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By- Linsey Hueg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Hour 5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Kapitel 4 Projekt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5943600" cy="39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Garamond"/>
              </a:rPr>
              <a:t>Ich rauche nictht, es ist nicht gut für meine Gesundheit.</a:t>
            </a:r>
            <a:endParaRPr b="1" lang="en-US" sz="5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3" name="il_fi" descr=""/>
          <p:cNvPicPr/>
          <p:nvPr/>
        </p:nvPicPr>
        <p:blipFill>
          <a:blip r:embed="rId1"/>
          <a:stretch/>
        </p:blipFill>
        <p:spPr>
          <a:xfrm>
            <a:off x="304920" y="3886200"/>
            <a:ext cx="236196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Ich esse viel Obst wie Erdbeeren und Himbeeren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85800" y="3352680"/>
            <a:ext cx="3114720" cy="20750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791320" y="2590920"/>
            <a:ext cx="2514600" cy="33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Ich jogge jeden Tag, es hält mich fit.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352680" y="2895480"/>
            <a:ext cx="2086200" cy="333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Du sollst keinen Alkohol trinken, es ist sehr schlecht f</a:t>
            </a:r>
            <a:r>
              <a:rPr b="0" lang="en-US" sz="4000" spc="-1" strike="noStrike">
                <a:solidFill>
                  <a:srgbClr val="000000"/>
                </a:solidFill>
                <a:latin typeface="Garamond"/>
                <a:ea typeface="Arial"/>
              </a:rPr>
              <a:t>ü</a:t>
            </a: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r deine Gesundheit. 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191120" y="2971800"/>
            <a:ext cx="309564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Ich finde es toll, dass du oft schlafen!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362320" y="2895480"/>
            <a:ext cx="403848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Ich darf Pizza essen einmal in Monat.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352680" y="2895480"/>
            <a:ext cx="3048120" cy="294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Ich darf nur keine Schokolade essen, weil es hat viel zucker. 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676520" y="281952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4T17:14:22Z</dcterms:created>
  <dc:creator>CUSD220</dc:creator>
  <dc:description/>
  <dc:language>en-US</dc:language>
  <cp:lastModifiedBy>CUSD220</cp:lastModifiedBy>
  <dcterms:modified xsi:type="dcterms:W3CDTF">2012-02-24T17:35:37Z</dcterms:modified>
  <cp:revision>3</cp:revision>
  <dc:subject/>
  <dc:title>Ich rauche nictht, es ist nicht gut für meine Gesundheit.</dc:title>
</cp:coreProperties>
</file>